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622-1721-4D43-9745-CE7876DA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2D2-0223-4017-858B-E53D3CCF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544-4D37-491F-A041-8F7A7ED8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FFA-2850-4738-A427-2A2662F7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107-5B92-4309-B034-1D3EF65E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7B0-56AB-4139-80BC-73410669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C0C-55E3-4BBD-9D19-99D53A0D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14B-6138-4263-8527-6D317591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B38-4927-41B0-9523-50FEC3F9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5ED-E021-4F93-8C3C-FFA1E51C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A5C-6C8A-440B-A776-5643150F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64D-85AC-4AC1-B394-865B088F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EC2C-9970-4266-AA6A-5DA3E701A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Clase 7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3 de octu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c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b050"/>
                </a:solidFill>
                <a:latin typeface="Arial"/>
              </a:rPr>
              <a:t>L.O:  To recall house and home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TOMAR QUIZ: REPAS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hermano de mi padre es mi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hija de mis tíos es mi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soy __________ de los padres de mis pad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adres de mis padres son mis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hija de mis padres es mi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905120" y="1733400"/>
            <a:ext cx="5667120" cy="3295800"/>
          </a:xfrm>
          <a:prstGeom prst="rect">
            <a:avLst/>
          </a:prstGeom>
          <a:ln w="0">
            <a:noFill/>
          </a:ln>
        </p:spPr>
      </p:pic>
      <p:sp>
        <p:nvSpPr>
          <p:cNvPr id="44" name="Line 3"/>
          <p:cNvSpPr/>
          <p:nvPr/>
        </p:nvSpPr>
        <p:spPr>
          <a:xfrm flipV="1">
            <a:off x="6400800" y="2286000"/>
            <a:ext cx="83808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 flipV="1">
            <a:off x="4876920" y="1905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962520" y="4724280"/>
            <a:ext cx="0" cy="99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5257800" y="4876920"/>
            <a:ext cx="0" cy="685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6553080" y="4876920"/>
            <a:ext cx="1067040" cy="6858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H="1">
            <a:off x="1980720" y="4800600"/>
            <a:ext cx="762120" cy="9144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304920" y="62485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304920" y="586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8915400" y="586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4114800" y="147780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Verdana"/>
              </a:rPr>
              <a:t>El b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629400" y="1859040"/>
            <a:ext cx="2514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l dorm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086600" y="5668920"/>
            <a:ext cx="175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cc00"/>
                </a:solidFill>
                <a:latin typeface="Verdana"/>
              </a:rPr>
              <a:t>La coc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419720" y="556272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6600"/>
                </a:solidFill>
                <a:latin typeface="Verdana"/>
              </a:rPr>
              <a:t>El com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2971800" y="574524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Verdana"/>
              </a:rPr>
              <a:t>La s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990720" y="5745240"/>
            <a:ext cx="1828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0099"/>
                </a:solidFill>
                <a:latin typeface="Verdana"/>
              </a:rPr>
              <a:t>El gara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2895480" y="6324480"/>
            <a:ext cx="38102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os cuartos de la c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762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La familia Lopez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e en oraciones comple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as personas hay en la familia López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inco person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n ellos una casa o un apartamento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una ca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viven ellos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Barcelo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os cuartos tiene su casa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oc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I-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b050"/>
                </a:solidFill>
                <a:latin typeface="Arial"/>
              </a:rPr>
              <a:t>Expresiones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emparej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mat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e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mucho en la escu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cribi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al quinto p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vi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una nov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render ___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. un alumno bueno y se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de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e. una carta con bolígra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. una limo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r 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. en una casa priv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. un programa depor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bi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. fruta en el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be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. carne, ensalada y pap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MI FAMILIA Y MI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7:52:45Z</dcterms:created>
  <dc:creator>Helen Zumaeta</dc:creator>
  <dc:description/>
  <dc:language>en-US</dc:language>
  <cp:lastModifiedBy>Helen Zumaeta</cp:lastModifiedBy>
  <cp:lastPrinted>2014-09-30T13:25:55Z</cp:lastPrinted>
  <dcterms:modified xsi:type="dcterms:W3CDTF">2015-10-13T20:41:16Z</dcterms:modified>
  <cp:revision>19</cp:revision>
  <dc:subject/>
  <dc:title>Me llamo _______ Clase 6nh/il La fecha es el 4 de marzo del 2011</dc:title>
</cp:coreProperties>
</file>